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AA93886-7C8F-4882-A23B-AB507725F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9760" y="681120"/>
            <a:ext cx="4552920" cy="3414600"/>
          </a:xfrm>
          <a:prstGeom prst="rect">
            <a:avLst/>
          </a:prstGeom>
          <a:ln w="0">
            <a:noFill/>
          </a:ln>
        </p:spPr>
      </p:sp>
      <p:sp>
        <p:nvSpPr>
          <p:cNvPr id="780"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4440" y="687240"/>
            <a:ext cx="4567320" cy="3426120"/>
          </a:xfrm>
          <a:prstGeom prst="rect">
            <a:avLst/>
          </a:prstGeom>
          <a:ln w="0">
            <a:noFill/>
          </a:ln>
        </p:spPr>
      </p:sp>
      <p:sp>
        <p:nvSpPr>
          <p:cNvPr id="78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99AD3-D1D5-4B50-848E-6F06509752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8AA0B-1344-4522-8D29-97C27663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C9D6D7-F47F-42C7-9C00-AAA0A2B7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541EEB-1714-45DA-BE0A-3EA5833B37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8B103C-3804-478F-9FB0-E241BD850A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82942B8-7BB5-45D3-8C17-868CAA3BA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9178DE0-29BA-4D7E-A89C-51DC165E7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985CEABF-B961-489D-B9A3-F7358CC09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611BA6D0-A48E-4F02-9B62-BFE964E43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B7A6A07-F1EC-41CE-A138-AA1B0376C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F9FCE641-0577-4048-B627-427D56DED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8093B-4510-4D71-8708-8235BB64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EEBCA6F6-D0FE-4149-9D0A-9E03A526E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257E4F32-4E3C-4855-8C75-7A0D093C0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383C1BF3-4223-406F-9942-F14DD24AB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D7931A86-9800-45F7-AD83-78EDA8C8F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7D5C1665-74EB-4095-9A1D-F6C7AA9B0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889E0-558C-4A84-8A59-864B32EA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E4286C-F69D-4999-8DA5-3B86DA1C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15348819-B06E-44C5-951B-73B5CC93C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744EE3-241A-42F4-8C6D-9B300A49E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411D9-2B6B-4D82-855E-EFDA1602B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1CF2DF-710F-41A5-930E-78A12123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40093-2BAA-439D-9F9E-392B31F477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B676-E0F7-4F1D-9DBE-7091F5F1F0CA}"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E782-2C43-4AA2-AD5B-051D4563D01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1A65-2BBB-40A9-92B3-3F35EE552146}"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07A7-9B5D-4FE5-B384-CC678BB8587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CC16-0AB3-4E6C-A700-C261FDCEA71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49BC-C99E-4D64-BE66-AFDFBDA976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ah’s Case Study</a:t>
            </a:r>
            <a:endParaRPr b="1" lang="en-US" sz="2000" spc="-1" strike="noStrike">
              <a:solidFill>
                <a:srgbClr val="000000"/>
              </a:solidFill>
              <a:latin typeface="Arial"/>
            </a:endParaRPr>
          </a:p>
        </p:txBody>
      </p:sp>
      <p:sp>
        <p:nvSpPr>
          <p:cNvPr id="76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ah’s LBO Teetering</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is that this is worse than the worst-case scenario.</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n executive closely involved with the Harrah’s LBO on the worst case scenarios factored into their models at the time of the deal, quoted in “Harrah’s Changes Its Game: Tough Times For Gambling, Large Debt Force Shift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equity shops TPG and Apollo took it private for $17 billion back in 2006.  They piled on a bunch of debt to do the deal: Harrah’s has $24 billion in debt right now.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economy going down the tubes, Harrah’s casino properties are being badly squeezed.  Harrah’s had about $1.5 billion in operating cash flows in 2006 and 2007 - when times were good.  But Harrah’s only had about $12 billion in debt at the end of 2007 and $800 million in interest expense that year.  Interest expense for the first half of 2008 was more than $900 million.  That extra interest expense is going to eat up most of their operating cash flow and the slowing economy will likely eat up the rest. </a:t>
            </a:r>
            <a:endParaRPr b="0" lang="en-US" sz="1400" spc="-1" strike="noStrike">
              <a:solidFill>
                <a:srgbClr val="000000"/>
              </a:solidFill>
              <a:latin typeface="Arial"/>
            </a:endParaRPr>
          </a:p>
        </p:txBody>
      </p:sp>
      <p:sp>
        <p:nvSpPr>
          <p:cNvPr id="76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3150-13A1-4F20-9027-31C083F6F1A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4B0A-8FEE-45CD-B9CF-AC72A2DDEA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ly traded casino operators MGM Grand (MGM) and Las Vegas Sands (LVS) are down 90% and 96% from their highs just 1 year ago!  These things also look like they are already pricing in a severe recession - or even a depression.  It suggests investors are worried they will even be able to survi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7CFB-2A22-4209-A7BC-AE6845DDFD6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7B02-2892-4A16-81B2-5177818CB9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010</a:t>
            </a:r>
            <a:endParaRPr b="1" lang="en-US" sz="2000" spc="-1" strike="noStrike">
              <a:solidFill>
                <a:srgbClr val="000000"/>
              </a:solidFill>
              <a:latin typeface="Arial"/>
            </a:endParaRPr>
          </a:p>
        </p:txBody>
      </p:sp>
      <p:sp>
        <p:nvSpPr>
          <p:cNvPr id="77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3.3 billion of 10 percent bonds due in December 2018, rated CCC by Standard &amp; Poor’s, slid 2.25 cents to 86 cents on the dollar as of 5:04 p.m. in New York, according to Trace, the bond-price reporting system of the Financial Industry Regulatory Authority. The debt has fallen from as high as 93.5 cents on Nov. 5.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rah’s LBO had closed as a deepening financial crisis spurred the worst recession since the Great Depression and froze deal-making in the buyout industr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073B-D976-4A64-BC63-039D66AF493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54E0-1C6A-4091-BCF2-26BF270606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ino operator’s private equity owners had cut the company’s debt by more than $4 billion in the past two years by offering creditors new bonds at a discount for their old notes, buying back other debt for less than face value and extending maturities on $5.5 billion in loan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which will be rechristened Caesars Entertainment to reflect its most famous Las Vegas property, Caesars Palace, plans to sell 31.25 million shares at $15 to $17 a share late this week, through a broad Wall Street underwriting group. The LBO sponsors have a cost basis of $20 a share on their stock, which will trade under the ticker CZ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D3C4-A9C2-43E8-A492-723EFC75435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942F-BF79-49F0-A000-64CB97BC2A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61CDE23-6C09-4686-A5E5-2297E27C92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1699543-07A3-4ECB-B67E-6A7FDCB2CC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A167-15E4-48BB-8399-570D637B493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8F0A-F385-4885-9E21-E57713A966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1093-CBC9-4EE0-9405-80BE384B5FB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B3BF-E451-45A3-B0D6-A4E7484D58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156F-8659-4C8C-8C08-A48CB35AA03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5892-400B-44EB-A7E8-369D700334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1236-5D84-4000-BA9C-97C09C97044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8B80-4AB9-4E95-A919-82EE5CEB6B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B3BA-895D-42EF-AEA9-DB202BB5A80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C0E9-445A-45F7-A177-2C169612B7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FA0A-28E3-4536-AC60-160F6E09BF1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D635-6BC3-4168-8622-0FCC1A173E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6BDC-A1C4-40DA-A08B-F70BFC7C7C5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A195-203F-4BAA-AB72-E83E7574B0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F332-E5CC-49FF-A798-BEF95C67EEA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247C-B36D-47B9-8B89-B264235187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6F93-4F7F-4320-9363-103EF609CCB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F9C0-6B28-42E9-9728-FFBFD42847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B812-EA6F-472A-9BA8-6920D631413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84C2-662F-4700-8914-D28126EB5F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AF2B-E154-46A7-B137-285C2DBAB65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014C-0C79-4CD3-B7A7-421240CCD2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BAA9-E6E0-4538-82EA-950E0C86EC3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B807-38D0-4B6F-B1CF-F82111C564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197F-D016-4918-A6FC-551C9609846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DAE8-6F24-4EA8-90B9-55949066EA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8F2D-37F4-46E0-911E-027FC388437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EDCB-4262-40A9-8814-86F4BDEBFF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F299-B798-4E63-831F-65ECF55C223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7F14-B494-4AA1-ACB5-3C9C849E21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398A-6195-4575-88CF-3FC2EFCA9DA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2599-6AC9-4A49-9BC4-320B4BB7F1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5F0D-CFEE-4B0A-9AFA-FFBDEA9C660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65EF-D345-442C-B17F-4B90D8823F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CC4FD134-A569-4A2D-A743-7FDC08549D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C03A-5DEE-4E3C-96E6-0E9ABB7A15E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C3EA-F72D-46B7-838E-8D4EF7D2F7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8FFB-0C59-4457-B9A5-D6D9569BAD6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B457-E29B-4664-B338-E4A11AC15B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A6E6-59B0-432E-B38E-318CD9B08E3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62EB-C0B1-4FFF-9455-E7E7C54A82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8233-0AFB-42CD-9780-3283B2F5A2C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5D52-F413-4BC9-B609-7844CFD32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E6DE-5F09-43F1-9CB4-8A897EE60B4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68DD-DAB8-4FEB-8C3C-570634FDE4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0DDF-E1D7-4AE8-8D47-395D2B9A27B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1CC4-F42A-4BE3-A198-4B90B2A3C1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009B-A231-42FA-BC93-0864C12808D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0BC3-AD1E-4629-A8A2-3C3AADDA67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A1A3-635A-4CF1-8706-42AAF994C88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D711-49BA-4F34-B6E5-6029342DE9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7238-4C8A-41BA-9400-9F706666080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257A-595A-4DA9-9C35-7C5062DB3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11FF-3623-423F-934F-7205A4BBC1E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E17C-E776-4991-804A-CD40A7D8AC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F6F2-C4D0-4097-AF5B-4B45F3CCEBE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F489-49CC-459D-8369-7E1E86D7A7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031A-BC1B-4362-A484-29F06429BB5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F639-90BE-4F5B-8191-AFC42EDFF7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3F0E-D229-4584-B07D-E82A90CA561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F8F8-D1E2-485B-854E-37F0A0E381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AD6C-8760-4E3D-AA5B-FCCB9016915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2A71-E6F1-4C63-A02A-3DDAF3CE1C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553B-F14D-4B8B-A7EA-28A009295AB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3F92-768D-4165-8DCC-144D2D4267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BE51-8DA7-4FB9-8257-FEF76661082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33F5-8C57-408E-837B-7C92246841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8C19-882F-4818-B1E5-FB72F50B165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6495-0EE2-42D3-907B-A8BC0BDCA0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771C-16C7-4A95-8589-D95C4B3275F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9281-9D77-4B67-BC4C-FFBAA6AC99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8421-8D29-4786-AD06-857A8227B82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9B18-ECFE-4CC8-B423-87027C4745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B377-69CD-43EB-90AF-C4409513D4D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7F01-35BB-4D18-90D8-F63F4DF516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8D0D-7008-457C-B163-5769B8AB8FC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A0A5-C7D8-4DE3-8727-811285761A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0E4B-4A90-49E1-8E34-A43B61344C1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A9BA-16B7-4D01-8AAD-F053C28FCD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3A2E-826D-4E4A-8F19-F86C17FFE0E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4560-CAA0-46FF-B3A6-27784D80D6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398B-57DE-4AC3-A4FA-58BB3E0048B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326-CD38-47C5-A9B9-9FF8A0447D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8F02-1A08-49BC-BE9F-D589E6F1D7C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EDC0-4B38-43AA-BF9C-27224B9478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BB87-D259-44BF-841F-3FDF36FFC94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E332-F811-43E1-BF99-8BCB7DACF5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4A98-EBBB-4E7D-8E2A-B142A8382CC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A75D-1768-4637-B6E0-11CA62C8D5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BBFF-91B9-48DE-8100-A3D19C3CE9F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4F06-ECCE-4364-A3D2-89CAAFC5D2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977A-06A5-402E-A067-462884CC132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5B68-2DC5-4743-A42D-FB086DB50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69D0-E73F-4F9C-BEA6-705C3854CA7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740B-BB0E-4877-B772-C8722A4284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1C6B-83D9-4700-B442-B99C80592EE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7FF1-2A13-4335-B897-F81404FBC2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2C18-8535-44F1-9595-4441D67BCEE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EC94-6FF2-4945-B397-7C6565C7D9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5612-9F87-42C9-AB35-337A6349762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1204-F4A1-415A-8346-AB951AF3DC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DAB1-6397-4B52-94D2-3A9F3F5FF6F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89D8-E8D7-4E2A-A3AF-2045523B4E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445B-987D-4A04-B5EF-7BFE661D7B3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DA01-705A-4498-BB15-D8AC8756C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56E8-0595-4BA0-B312-0D201B4956C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833D-DDA0-49E2-A4F0-B5221641E2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FE15-E650-413D-871E-CE100F7E097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41E2-5558-43F0-8C66-4AD0855BD7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90D0-4BB2-416A-AEF5-5859F41B940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D187-7B4D-48DF-A82F-5B2EA9A41E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3E3D-151D-40AB-8F83-AD5A247F0EC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22B9-1171-4090-A7E4-0EC3DAD615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B35D-D667-414D-9399-6EA47407296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63E6-A4C5-4F34-8B18-1B1493F213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DDC1-3A46-41B6-BB82-B51DED623E2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A0D-EF46-40EE-A043-3B64AA89CF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62AA-8579-4F12-9382-FD39D270D94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5170-2259-43A0-AB16-DDCCCF87E6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DBE0-FD66-4561-8F40-348CDE55584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8F97-6C01-4ABB-AA87-BCFD024A72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446B-CAC2-4BD0-96A0-6891B0212AA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C868-A492-4C3B-981A-F4AA417341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0C6D-3094-44BE-8C3E-465D006D245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A3B0-D333-4776-BB23-5859E4E6A6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D1D6-1A14-4827-A879-FEEBD44E279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0AA7-D9FE-4D9B-A4F5-E810B64EA7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CF3F-E7F5-4EFE-953C-E87A0367C35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A768-63A1-4052-87D0-95BC0E46FD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373C-4E1F-402B-8944-EBAF32E7C9F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8123-2A4B-47C1-9331-23FA0C005C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21FA-AD77-45A2-B646-ED4F3D550F9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43FB-D6E7-4830-817E-7125CC99C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E723-2326-4DA3-938F-9B9688642AC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864B-AF90-4949-AA18-7290CE4F01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0077-6932-4B8E-94E3-76D0D6E9CB1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A0D5-849B-4648-96BC-B9DF1C6919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2CEB-983E-4C5A-8A0A-4A602024E9C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E53A-D482-4877-9519-8D6DE1F877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052C-1B93-45BD-A8F0-3F2A8727C51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DED0-76AC-4917-A33A-F90458697B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7562-20A6-4BA5-BB63-F9FBFEA2D31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A593-A06F-4E10-831A-393894ED92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5DA3-9975-4B67-931F-A433F7DF8EE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D4C4-D4A3-42F7-B79C-022E91BAE9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2-01-04T19:36:22Z</dcterms:modified>
  <cp:revision>245</cp:revision>
  <dc:subject>Freedom</dc:subject>
  <dc:title>LBO General Discussion</dc:title>
</cp:coreProperties>
</file>